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D141-D5A0-4BFD-9A5F-955EE0144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217C-8651-4E13-8168-58AC55D54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DE1A-A72D-48B1-8FEE-1FA03CCE9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5FF9-7C40-4BAF-B1A4-FC24C9BAA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9F58-1E3D-4923-B6A2-CC89524AA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4073-C254-4AB6-98C2-A930EDE48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E1DB-2A69-4972-9183-45FAD1B4D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CED2-AE3B-4C5E-B8A1-A2925EC27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B574-876E-46F6-86A0-008098A5F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FD21-502E-4A3B-A3D4-31104F41F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4E02-FD29-45B0-BA17-F3FE8EDE3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7248-E7DB-478C-B91F-48ED73823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DD7D2-670A-460D-8BD5-69B8E359CD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&#1088;&#1080;&#1089;&#1091;&#1085;&#1082;&#1080;.ppt" TargetMode="External"/><Relationship Id="rId3" Type="http://schemas.openxmlformats.org/officeDocument/2006/relationships/hyperlink" Target="file:///&#1076;&#1077;&#1085;&#1100;%20&#1087;&#1072;&#1084;&#1103;&#1090;&#1080;%20&#1078;&#1077;&#1088;&#1090;&#1074;%20&#1044;&#1058;&#1055;.ppt" TargetMode="External"/><Relationship Id="rId4" Type="http://schemas.openxmlformats.org/officeDocument/2006/relationships/hyperlink" Target="file:///&#1089;&#1085;&#1077;&#1075;&#1086;&#1074;&#1080;&#1082;.ppt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12500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Социальный проект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«Опасные игры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292428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Участники – учащиеся 5 Б кла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Классный руководитель – Пименова Е.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2010-2011 уч.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12500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Цель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227664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познакомить детей с основны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опасными ситуациями, которые могу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возникнуть на проезжей части дорог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и правилами поведения на дорог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Рисунки по ПД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День памяти жертв ДТ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Снегови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6T12:27:36Z</dcterms:created>
  <dc:creator>007</dc:creator>
  <dc:description/>
  <dc:language>en-US</dc:language>
  <cp:lastModifiedBy>User1</cp:lastModifiedBy>
  <dcterms:modified xsi:type="dcterms:W3CDTF">2012-01-23T14:14:50Z</dcterms:modified>
  <cp:revision>18</cp:revision>
  <dc:subject/>
  <dc:title>Слайд 1</dc:title>
</cp:coreProperties>
</file>